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AB2A-9B5A-4233-8F03-A9DDE737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9B27-D29B-4832-A346-FF05E4EF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AAD-56C7-437F-859A-5A0CF91F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9F08-D0DA-4223-9A34-B78F3397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3768-71B5-4B34-826A-0B24E12E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7317-F64F-4B85-893C-5846080B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2FA0-89DD-440C-92A7-7FEAFA6D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29F3-3296-4A5D-9BFB-9C7ECDC5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18F5-740E-457A-9DC4-D210978D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7D37-E99C-434C-BD45-3B79318E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37E2-71B5-40DC-A28D-51670C93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4BB9-96F4-4A4D-9D42-79AB2522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642B-5F64-4151-9D8C-27901B9DB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2.wmf"/><Relationship Id="rId3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6560" y="2422440"/>
            <a:ext cx="8390160" cy="20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89604" dir="2700000" blurRad="0" rotWithShape="0">
                    <a:srgbClr val="99cc00"/>
                  </a:outerShdw>
                </a:effectLst>
                <a:latin typeface="Arial Black"/>
              </a:rPr>
              <a:t>Huge Numbers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89604" dir="2700000" blurRad="0" rotWithShape="0">
                  <a:srgbClr val="99cc0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11640" y="4329000"/>
            <a:ext cx="4032360" cy="25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32280"/>
            <a:ext cx="3203640" cy="792000"/>
          </a:xfrm>
          <a:prstGeom prst="wedgeRectCallout">
            <a:avLst>
              <a:gd name="adj1" fmla="val 40634"/>
              <a:gd name="adj2" fmla="val 179861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oo eas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042920" y="1521000"/>
          <a:ext cx="1392480" cy="8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521000"/>
                    <a:ext cx="139248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2664000" y="1521000"/>
          <a:ext cx="1392120" cy="94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4000" y="1521000"/>
                    <a:ext cx="139212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311880" y="1521000"/>
          <a:ext cx="1392120" cy="94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11880" y="1521000"/>
                    <a:ext cx="139212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572000" y="1521000"/>
          <a:ext cx="1392120" cy="94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1521000"/>
                    <a:ext cx="139212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78000" y="584280"/>
            <a:ext cx="8388000" cy="58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ut these 4 numbers in ascending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2843280" y="3429000"/>
            <a:ext cx="2035080" cy="3005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64000" y="2529000"/>
            <a:ext cx="3276720" cy="1331640"/>
          </a:xfrm>
          <a:prstGeom prst="cloudCallout">
            <a:avLst>
              <a:gd name="adj1" fmla="val -59203"/>
              <a:gd name="adj2" fmla="val 66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hint pleas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67400" y="4365720"/>
            <a:ext cx="14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H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184720" y="4976640"/>
          <a:ext cx="3743280" cy="1498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84720" y="4976640"/>
                    <a:ext cx="3743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148360" y="4976640"/>
          <a:ext cx="3741480" cy="1497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148360" y="4976640"/>
                    <a:ext cx="3741480" cy="14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250920" y="1398600"/>
          <a:ext cx="111744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98600"/>
                    <a:ext cx="111744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511280" y="1433520"/>
          <a:ext cx="2030400" cy="7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1280" y="1433520"/>
                    <a:ext cx="20304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797280" y="1204920"/>
          <a:ext cx="2182680" cy="116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97280" y="1204920"/>
                    <a:ext cx="21826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443640" y="1254240"/>
          <a:ext cx="2538360" cy="101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43640" y="1254240"/>
                    <a:ext cx="253836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33280" y="2631960"/>
          <a:ext cx="1117800" cy="76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3280" y="2631960"/>
                    <a:ext cx="1117800" cy="7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494000" y="2666880"/>
          <a:ext cx="2030400" cy="760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94000" y="2666880"/>
                    <a:ext cx="2030400" cy="7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780000" y="2463840"/>
          <a:ext cx="2182680" cy="116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80000" y="2463840"/>
                    <a:ext cx="21826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426360" y="2513160"/>
          <a:ext cx="2538360" cy="1014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26360" y="2513160"/>
                    <a:ext cx="253836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233280" y="3821040"/>
          <a:ext cx="1117800" cy="758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3280" y="3821040"/>
                    <a:ext cx="1117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494000" y="3854520"/>
          <a:ext cx="2030400" cy="760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94000" y="3854520"/>
                    <a:ext cx="203040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3780000" y="3651120"/>
          <a:ext cx="2182680" cy="1167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80000" y="3651120"/>
                    <a:ext cx="2182680" cy="11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400800" y="3700440"/>
          <a:ext cx="2589120" cy="1014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400800" y="3700440"/>
                    <a:ext cx="2589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196920" y="4986360"/>
          <a:ext cx="1117440" cy="7603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96920" y="4986360"/>
                    <a:ext cx="111744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457280" y="5021280"/>
          <a:ext cx="2030400" cy="7603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457280" y="5021280"/>
                    <a:ext cx="203040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743280" y="4818240"/>
          <a:ext cx="2182680" cy="11667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743280" y="4818240"/>
                    <a:ext cx="21826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389640" y="4867200"/>
          <a:ext cx="2538360" cy="10144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389640" y="4867200"/>
                    <a:ext cx="2538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863640" y="333360"/>
            <a:ext cx="7453440" cy="5814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SOLUTION TO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23:22:45Z</dcterms:created>
  <dc:creator>Trifon</dc:creator>
  <dc:description/>
  <dc:language>en-US</dc:language>
  <cp:lastModifiedBy>Trifon</cp:lastModifiedBy>
  <dcterms:modified xsi:type="dcterms:W3CDTF">2003-11-18T23:57:39Z</dcterms:modified>
  <cp:revision>4</cp:revision>
  <dc:subject/>
  <dc:title>Slide 1</dc:title>
</cp:coreProperties>
</file>